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1160" y="765000"/>
            <a:ext cx="4903920" cy="367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90000" tIns="0" bIns="46800" anchor="ctr">
            <a:noAutofit/>
          </a:bodyPr>
          <a:p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hdr"/>
          </p:nvPr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1"/>
          </p:nvPr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840" y="4673160"/>
            <a:ext cx="4888080" cy="44420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ABBAC41-61C7-4228-91F6-0300BFBFC32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2FF0065-BE8F-4312-8880-871379AEFBD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E56706C-1AAB-4CC5-B317-3E04D525399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7D22CB7-8F1B-46C2-92ED-96EED8A0735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198C99F-38F2-47A9-AEDD-97858FABBA0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AC01A53-EBEC-4461-B31D-301B3CBBAD5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53080"/>
            <a:ext cx="7391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duct Status Report Neo, October, 24th,  200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E77258-5C01-4C82-9305-77CC5F12C3C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722360" y="6519960"/>
            <a:ext cx="1119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3" marL="167652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–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4" marL="2155680" indent="-23940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9480" y="2971800"/>
            <a:ext cx="6324840" cy="971640"/>
          </a:xfrm>
          <a:prstGeom prst="rect">
            <a:avLst/>
          </a:prstGeom>
        </p:spPr>
        <p:txBody>
          <a:bodyPr wrap="none" lIns="0" rIns="90000" tIns="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nagement Summar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60520" y="4254480"/>
            <a:ext cx="4260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.10.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eston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0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-P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. Schmi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.-J.Frey, H-M. Mues-H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-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Köhler, H. Bös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-BA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. K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 Hir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1371600"/>
            <a:ext cx="609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1905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01000" y="1905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01000" y="14479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3623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8280" y="25560"/>
            <a:ext cx="69213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 Status Report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35080" y="1317600"/>
            <a:ext cx="719460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b5d"/>
                </a:solidFill>
                <a:latin typeface="Arial"/>
              </a:rPr>
              <a:t>A </a:t>
            </a: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– Continue with Neo</a:t>
            </a:r>
            <a:br>
              <a:rPr sz="1800"/>
            </a:b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Not delayed within the mechanical process due to software</a:t>
            </a:r>
            <a:br>
              <a:rPr sz="1800"/>
            </a:b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Release budget for tooling when necessary (before M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b5d"/>
                </a:solidFill>
                <a:latin typeface="Arial"/>
              </a:rPr>
              <a:t>B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– Stop of the project N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336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cision op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08960" y="4622760"/>
            <a:ext cx="2934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4076640"/>
            <a:ext cx="4673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We take the following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46000" y="457524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55760" y="457524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13680" y="4618080"/>
            <a:ext cx="2934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102200" y="4583160"/>
            <a:ext cx="380880" cy="2919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25920" y="4630680"/>
            <a:ext cx="2436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Present again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49400" y="390672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50600" y="3200040"/>
            <a:ext cx="321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4084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 schedule Ne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71680" y="1066320"/>
            <a:ext cx="7772400" cy="53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SX1 2 Month delay for NE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0 for SW unclear (target until End Sept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core team not fully staff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 companies (e.g Atelier) aren’t able 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Neo due to SX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act negotiations with Nokia are focusing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X1 not on Neo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eries 60 contract available for Neo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w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0 for HW on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Sep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4 for HW on 2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July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y 1.9“ on critical pat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Only 30k are available end of Jul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193K are available end of Augu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20600" y="1152360"/>
            <a:ext cx="864252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b5d"/>
                </a:solidFill>
                <a:latin typeface="Arial"/>
                <a:ea typeface="Times New Roman"/>
              </a:rPr>
              <a:t>BOM develop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Start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Kempinski-WS</a:t>
            </a:r>
            <a:r>
              <a:rPr b="1" lang="en-US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 u="sng">
                <a:solidFill>
                  <a:srgbClr val="002b5d"/>
                </a:solidFill>
                <a:uFillTx/>
                <a:latin typeface="Arial"/>
                <a:ea typeface="Times New Roman"/>
              </a:rPr>
              <a:t>145 EUR (Basis Yazo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Result of Landshut-WS </a:t>
            </a:r>
            <a:r>
              <a:rPr b="1" lang="en-GB" sz="1200" spc="-1" strike="noStrike">
                <a:solidFill>
                  <a:srgbClr val="002b5d"/>
                </a:solidFill>
                <a:latin typeface="Arial"/>
                <a:ea typeface="Times New Roman"/>
              </a:rPr>
              <a:t>(21.07-01.08.03)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Neo design V3 is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 u="sng">
                <a:solidFill>
                  <a:srgbClr val="002b5d"/>
                </a:solidFill>
                <a:uFillTx/>
                <a:latin typeface="Arial"/>
                <a:ea typeface="Times New Roman"/>
              </a:rPr>
              <a:t>162,00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V3 includes: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amber keypad LED's (12er blo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simple QWETRTY keypad (Foil Keypad)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no QWERTY illumination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Current position </a:t>
            </a:r>
            <a:r>
              <a:rPr b="1" lang="en-GB" sz="1200" spc="-1" strike="noStrike">
                <a:solidFill>
                  <a:srgbClr val="002b5d"/>
                </a:solidFill>
                <a:latin typeface="Arial"/>
                <a:ea typeface="Times New Roman"/>
              </a:rPr>
              <a:t>(25.08.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no stacked EGOLD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 1,30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QWERTY-keypad SL55 like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+ 5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red QWERTY illumination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+ 1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white keypad LED's (12er block)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+ 3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&gt;Neo BOM today: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 </a:t>
            </a:r>
            <a:r>
              <a:rPr b="1" lang="en-GB" sz="1600" spc="-1" strike="noStrike" u="sng">
                <a:solidFill>
                  <a:srgbClr val="002b5d"/>
                </a:solidFill>
                <a:uFillTx/>
                <a:latin typeface="Arial"/>
                <a:ea typeface="Times New Roman"/>
              </a:rPr>
              <a:t>169,70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o-BOM: History and stat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2200" y="2300400"/>
            <a:ext cx="770040" cy="275256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71880" y="2340000"/>
            <a:ext cx="769680" cy="271296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51200" y="1987560"/>
            <a:ext cx="770040" cy="306540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11920" y="1814400"/>
            <a:ext cx="770040" cy="323856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62440" y="1987560"/>
            <a:ext cx="769680" cy="35244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41760" y="1886040"/>
            <a:ext cx="770040" cy="10152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0880" y="1835280"/>
            <a:ext cx="770040" cy="5076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21440" y="1814400"/>
            <a:ext cx="770040" cy="2088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82760" y="2300400"/>
            <a:ext cx="770040" cy="39600"/>
          </a:xfrm>
          <a:prstGeom prst="rect">
            <a:avLst/>
          </a:pr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23160" y="1795320"/>
            <a:ext cx="770040" cy="19080"/>
          </a:xfrm>
          <a:prstGeom prst="rect">
            <a:avLst/>
          </a:pr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622440" y="5459400"/>
          <a:ext cx="7800840" cy="441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440" y="5459400"/>
                    <a:ext cx="78008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3551400" y="5883120"/>
            <a:ext cx="119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eo concept 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800" y="5875200"/>
            <a:ext cx="120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Yazoo” Kem-pins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38960" y="58770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eo actual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43280" y="5872320"/>
            <a:ext cx="120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Yazoo”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66760" y="1163520"/>
            <a:ext cx="120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arget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98640" y="1220760"/>
            <a:ext cx="1166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cept #3 cost 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54560" y="1214280"/>
            <a:ext cx="1009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ugu Qw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10280" y="1214280"/>
            <a:ext cx="1009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hite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42160" y="1095840"/>
            <a:ext cx="10112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TC no stacked E-G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08680" y="1214280"/>
            <a:ext cx="1244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Qwerty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0120" y="0"/>
            <a:ext cx="7239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o BOM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010280" y="257040"/>
            <a:ext cx="327240" cy="657360"/>
            <a:chOff x="7010280" y="257040"/>
            <a:chExt cx="327240" cy="657360"/>
          </a:xfrm>
        </p:grpSpPr>
        <p:sp>
          <p:nvSpPr>
            <p:cNvPr id="287" name=""/>
            <p:cNvSpPr/>
            <p:nvPr/>
          </p:nvSpPr>
          <p:spPr>
            <a:xfrm>
              <a:off x="7010280" y="257040"/>
              <a:ext cx="327240" cy="65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10360" y="317520"/>
              <a:ext cx="13032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10360" y="522360"/>
              <a:ext cx="130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10360" y="725400"/>
              <a:ext cx="13032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74124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0348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7860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4144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343320" y="1322280"/>
            <a:ext cx="2720880" cy="4651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8a4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4680" y="245880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33,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0200" y="1671480"/>
            <a:ext cx="1174680" cy="78264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86240" y="1671480"/>
            <a:ext cx="1175040" cy="120492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12200" y="1671480"/>
            <a:ext cx="1172880" cy="151632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44520" y="1322280"/>
            <a:ext cx="2176560" cy="38736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8a4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53160" y="1322280"/>
            <a:ext cx="2722680" cy="465120"/>
          </a:xfrm>
          <a:custGeom>
            <a:avLst/>
            <a:gdLst>
              <a:gd name="textAreaLeft" fmla="*/ 0 w 2722680"/>
              <a:gd name="textAreaRight" fmla="*/ 2723040 w 272268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8a4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8720" y="1672200"/>
            <a:ext cx="15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azoo” Commitment Kempins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97880" y="1732680"/>
            <a:ext cx="104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o actu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64000" y="1672200"/>
            <a:ext cx="105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o actual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2520" y="280152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55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64600" y="311256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71,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4680" y="1684440"/>
            <a:ext cx="8629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15200" y="1716480"/>
            <a:ext cx="12016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lay / TT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X1 impact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87400" y="1725840"/>
            <a:ext cx="1089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ign concept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311040" y="14029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554040" y="3343320"/>
          <a:ext cx="8464680" cy="116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040" y="3343320"/>
                    <a:ext cx="84646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3032280" y="1709640"/>
            <a:ext cx="1174680" cy="124452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10040" y="1710360"/>
            <a:ext cx="104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o concept 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76400" y="2879280"/>
            <a:ext cx="14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59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554040" y="4276800"/>
          <a:ext cx="8464680" cy="116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4040" y="4276800"/>
                    <a:ext cx="846468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554040" y="5286240"/>
          <a:ext cx="8464680" cy="1167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4040" y="5286240"/>
                    <a:ext cx="8464680" cy="11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4121280" y="1814400"/>
            <a:ext cx="1089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eatur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-1440" y="3733200"/>
            <a:ext cx="77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5400000">
            <a:off x="-110880" y="4573800"/>
            <a:ext cx="99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olume in M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5400000">
            <a:off x="-2520" y="5475240"/>
            <a:ext cx="77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ice A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0120" y="0"/>
            <a:ext cx="7239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o EBIT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7010280" y="257040"/>
            <a:ext cx="327240" cy="657360"/>
            <a:chOff x="7010280" y="257040"/>
            <a:chExt cx="327240" cy="657360"/>
          </a:xfrm>
        </p:grpSpPr>
        <p:sp>
          <p:nvSpPr>
            <p:cNvPr id="327" name=""/>
            <p:cNvSpPr/>
            <p:nvPr/>
          </p:nvSpPr>
          <p:spPr>
            <a:xfrm>
              <a:off x="7010280" y="257040"/>
              <a:ext cx="327240" cy="65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110360" y="317520"/>
              <a:ext cx="13032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110360" y="522360"/>
              <a:ext cx="130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110360" y="725400"/>
              <a:ext cx="13032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oduct Status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56272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600200"/>
            <a:ext cx="218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/Market 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611440"/>
            <a:ext cx="17496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58128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57200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17524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85920" y="1801800"/>
            <a:ext cx="128520" cy="125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9868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1144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276720" y="2421000"/>
            <a:ext cx="4876560" cy="828360"/>
            <a:chOff x="3276720" y="2421000"/>
            <a:chExt cx="4876560" cy="828360"/>
          </a:xfrm>
        </p:grpSpPr>
        <p:sp>
          <p:nvSpPr>
            <p:cNvPr id="112" name=""/>
            <p:cNvSpPr/>
            <p:nvPr/>
          </p:nvSpPr>
          <p:spPr>
            <a:xfrm>
              <a:off x="3276720" y="242100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12720" y="242100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usiness case negativ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327480" y="4702320"/>
            <a:ext cx="4876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6668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85920" y="2716200"/>
            <a:ext cx="128520" cy="125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98680" y="27162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11440" y="27162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365760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85920" y="37069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98680" y="37069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11440" y="3706920"/>
            <a:ext cx="128520" cy="125280"/>
          </a:xfrm>
          <a:prstGeom prst="ellipse">
            <a:avLst/>
          </a:prstGeom>
          <a:solidFill>
            <a:srgbClr val="0ac9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464832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85920" y="4697280"/>
            <a:ext cx="128520" cy="12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98680" y="469728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11440" y="4697280"/>
            <a:ext cx="128520" cy="125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56386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85920" y="5688000"/>
            <a:ext cx="128520" cy="12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98680" y="56880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11440" y="5688000"/>
            <a:ext cx="128520" cy="125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276720" y="1447920"/>
            <a:ext cx="4876560" cy="828360"/>
            <a:chOff x="3276720" y="1447920"/>
            <a:chExt cx="4876560" cy="828360"/>
          </a:xfrm>
        </p:grpSpPr>
        <p:sp>
          <p:nvSpPr>
            <p:cNvPr id="132" name=""/>
            <p:cNvSpPr/>
            <p:nvPr/>
          </p:nvSpPr>
          <p:spPr>
            <a:xfrm>
              <a:off x="3276720" y="144792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12720" y="144792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ctual S4 date end of August (2 month delay) due to SX1 impact (Blocking of internal and external software recourses)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276720" y="3395520"/>
            <a:ext cx="4876560" cy="828360"/>
            <a:chOff x="3276720" y="3395520"/>
            <a:chExt cx="4876560" cy="828360"/>
          </a:xfrm>
        </p:grpSpPr>
        <p:sp>
          <p:nvSpPr>
            <p:cNvPr id="135" name=""/>
            <p:cNvSpPr/>
            <p:nvPr/>
          </p:nvSpPr>
          <p:spPr>
            <a:xfrm>
              <a:off x="3276720" y="339552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12720" y="339552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Key features: QWERTY-Keyboard; </a:t>
              </a:r>
              <a:r>
                <a:rPr b="0" lang="en-GB" sz="1600" spc="-1" strike="noStrike">
                  <a:solidFill>
                    <a:srgbClr val="ff0000"/>
                  </a:solidFill>
                  <a:latin typeface="Arial"/>
                </a:rPr>
                <a:t>A-GPS (?)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; 1.3 MPix Camera; Open 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276720" y="4368960"/>
            <a:ext cx="4876560" cy="828000"/>
            <a:chOff x="3276720" y="4368960"/>
            <a:chExt cx="4876560" cy="828000"/>
          </a:xfrm>
        </p:grpSpPr>
        <p:sp>
          <p:nvSpPr>
            <p:cNvPr id="138" name=""/>
            <p:cNvSpPr/>
            <p:nvPr/>
          </p:nvSpPr>
          <p:spPr>
            <a:xfrm>
              <a:off x="3276720" y="4368960"/>
              <a:ext cx="4876560" cy="828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12720" y="4368960"/>
              <a:ext cx="482580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 RF Connector due to design constr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276720" y="5343480"/>
            <a:ext cx="4876560" cy="828360"/>
            <a:chOff x="3276720" y="5343480"/>
            <a:chExt cx="4876560" cy="828360"/>
          </a:xfrm>
        </p:grpSpPr>
        <p:sp>
          <p:nvSpPr>
            <p:cNvPr id="141" name=""/>
            <p:cNvSpPr/>
            <p:nvPr/>
          </p:nvSpPr>
          <p:spPr>
            <a:xfrm>
              <a:off x="3276720" y="534348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12720" y="534348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124080" y="1066680"/>
            <a:ext cx="54104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us and major changes (regarding last milesto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07520" y="6248520"/>
            <a:ext cx="676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alw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1244520"/>
            <a:ext cx="3504960" cy="1041480"/>
          </a:xfrm>
          <a:prstGeom prst="roundRect">
            <a:avLst>
              <a:gd name="adj" fmla="val 6097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5440" y="1255680"/>
            <a:ext cx="3367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ition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/Reference-Clas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X-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     Cosmopolitan Net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le &gt;&gt; Female, 25-40 years, high income,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professional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&amp; private u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3520" y="4719600"/>
            <a:ext cx="6642000" cy="1757520"/>
            <a:chOff x="533520" y="4719600"/>
            <a:chExt cx="6642000" cy="1757520"/>
          </a:xfrm>
        </p:grpSpPr>
        <p:sp>
          <p:nvSpPr>
            <p:cNvPr id="148" name=""/>
            <p:cNvSpPr/>
            <p:nvPr/>
          </p:nvSpPr>
          <p:spPr>
            <a:xfrm>
              <a:off x="533520" y="5004000"/>
              <a:ext cx="6642000" cy="1473120"/>
            </a:xfrm>
            <a:prstGeom prst="roundRect">
              <a:avLst>
                <a:gd name="adj" fmla="val 5282"/>
              </a:avLst>
            </a:prstGeom>
            <a:solidFill>
              <a:srgbClr val="cad9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8040" y="5069160"/>
              <a:ext cx="336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224"/>
                </a:spcBef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06960" y="5069160"/>
              <a:ext cx="244152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275"/>
                </a:spcBef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08680" y="500400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8040" y="4719600"/>
              <a:ext cx="1836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96880" y="5046840"/>
            <a:ext cx="7121520" cy="1401480"/>
            <a:chOff x="596880" y="5046840"/>
            <a:chExt cx="7121520" cy="1401480"/>
          </a:xfrm>
        </p:grpSpPr>
        <p:sp>
          <p:nvSpPr>
            <p:cNvPr id="154" name=""/>
            <p:cNvSpPr/>
            <p:nvPr/>
          </p:nvSpPr>
          <p:spPr>
            <a:xfrm>
              <a:off x="596880" y="5046840"/>
              <a:ext cx="3527280" cy="14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fferentiation to MP product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Product / design concept (messaging devi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Arial"/>
                </a:rPr>
                <a:t>A-GPS variant (?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MC card slo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pen OS (Series 60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de-DE" sz="1300" spc="-1" strike="noStrike">
                  <a:solidFill>
                    <a:srgbClr val="ff0000"/>
                  </a:solidFill>
                  <a:latin typeface="Arial"/>
                </a:rPr>
                <a:t>MP3 Player (tbd)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91120" y="5046840"/>
              <a:ext cx="352728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fferentiation to Competition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Product / design concept </a:t>
              </a:r>
              <a:br>
                <a:rPr sz="1300"/>
              </a:b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(messaging devi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de-DE" sz="1300" spc="-1" strike="noStrike">
                  <a:solidFill>
                    <a:srgbClr val="ff0000"/>
                  </a:solidFill>
                  <a:latin typeface="Arial"/>
                </a:rPr>
                <a:t>MP3 Player (tbd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Arial"/>
                </a:rPr>
                <a:t>A-GPS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 variant &amp; </a:t>
              </a:r>
              <a:r>
                <a:rPr b="0" lang="de-DE" sz="1400" spc="-1" strike="noStrike">
                  <a:solidFill>
                    <a:srgbClr val="ff0000"/>
                  </a:solidFill>
                  <a:latin typeface="Arial"/>
                </a:rPr>
                <a:t>W-LAN o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114800" y="1244520"/>
            <a:ext cx="3443400" cy="1041480"/>
            <a:chOff x="4114800" y="1244520"/>
            <a:chExt cx="3443400" cy="1041480"/>
          </a:xfrm>
        </p:grpSpPr>
        <p:sp>
          <p:nvSpPr>
            <p:cNvPr id="157" name=""/>
            <p:cNvSpPr/>
            <p:nvPr/>
          </p:nvSpPr>
          <p:spPr>
            <a:xfrm>
              <a:off x="4114800" y="1244520"/>
              <a:ext cx="3048120" cy="1041480"/>
            </a:xfrm>
            <a:prstGeom prst="roundRect">
              <a:avLst>
                <a:gd name="adj" fmla="val 6097"/>
              </a:avLst>
            </a:prstGeom>
            <a:solidFill>
              <a:srgbClr val="cad9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91120" y="1295640"/>
              <a:ext cx="336708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sines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3 09/04, L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 month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olume over L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5 Mi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BIT p.u. Targe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x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114800" y="2414520"/>
            <a:ext cx="3051000" cy="1230480"/>
          </a:xfrm>
          <a:prstGeom prst="roundRect">
            <a:avLst>
              <a:gd name="adj" fmla="val 4731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645000"/>
            <a:ext cx="3051000" cy="1230120"/>
          </a:xfrm>
          <a:prstGeom prst="roundRect">
            <a:avLst>
              <a:gd name="adj" fmla="val 4731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414520"/>
            <a:ext cx="3708360" cy="2449440"/>
          </a:xfrm>
          <a:custGeom>
            <a:avLst/>
            <a:gdLst>
              <a:gd name="textAreaLeft" fmla="*/ 0 w 3708360"/>
              <a:gd name="textAreaRight" fmla="*/ 3708720 w 3708360"/>
              <a:gd name="textAreaTop" fmla="*/ 0 h 2449440"/>
              <a:gd name="textAreaBottom" fmla="*/ 244944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79" y="0"/>
                </a:lnTo>
                <a:lnTo>
                  <a:pt x="21600" y="10800"/>
                </a:lnTo>
                <a:lnTo>
                  <a:pt x="192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2414520"/>
            <a:ext cx="28195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end use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Innovative &amp; elegant design combining functionality and esthetic in a surprisung w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st &amp; easy text inp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gh quality photo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6880" y="2428920"/>
            <a:ext cx="3213000" cy="23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Key characteristic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WERTY Keyp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n OS (Series 60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1,3 mega pixel camera with attachable </a:t>
            </a:r>
            <a:br>
              <a:rPr sz="1300"/>
            </a:b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   flash (accessory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300" spc="-1" strike="noStrike">
                <a:solidFill>
                  <a:srgbClr val="ff0000"/>
                </a:solidFill>
                <a:latin typeface="Arial"/>
              </a:rPr>
              <a:t>MP3 player (tb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External memory (MMC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A-GPS variant (?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Key characteristic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messaging device offering an innovative design merging phone &amp; keyp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3648240"/>
            <a:ext cx="27432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operato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rator specific MMI &amp; hardke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ll range of messaging services (SMS, MMS, e-mail, IM, PT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300" spc="-1" strike="noStrike">
                <a:solidFill>
                  <a:srgbClr val="ff0000"/>
                </a:solidFill>
                <a:latin typeface="Arial"/>
              </a:rPr>
              <a:t>Assisted GPS variant enabling location-base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oduct Profile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585200" y="2365200"/>
            <a:ext cx="1393560" cy="264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91960" y="1092240"/>
          <a:ext cx="8115480" cy="5765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1092240"/>
                    <a:ext cx="811548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 flipV="1">
            <a:off x="825480" y="1262160"/>
            <a:ext cx="7162920" cy="494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TA Project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53000" y="374328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1960" y="977760"/>
            <a:ext cx="1095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me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all Project Status N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53000" y="374328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2120" y="1050840"/>
            <a:ext cx="7194600" cy="55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4b6a"/>
                </a:solidFill>
                <a:uFillTx/>
                <a:latin typeface="Arial"/>
              </a:rPr>
              <a:t>Softw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Software only partly progress (Predevelopment S60 V2.0). Only very little progress in other areas (System architecture, integration, planning, SWI, 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Therefore S0-Status for SW not reachable during the next weeks due to resource allocation for S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4b6a"/>
                </a:solidFill>
                <a:uFillTx/>
                <a:latin typeface="Arial"/>
              </a:rPr>
              <a:t>Hardw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S0 Status reached 1</a:t>
            </a:r>
            <a:r>
              <a:rPr b="0" lang="en-GB" sz="1400" spc="-1" strike="noStrike" baseline="30000">
                <a:solidFill>
                  <a:srgbClr val="004b6a"/>
                </a:solidFill>
                <a:latin typeface="Arial"/>
              </a:rPr>
              <a:t>st</a:t>
            </a: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 of October. We now are facing the situation of upcoming investments for tooling and proto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4b6a"/>
                </a:solidFill>
                <a:uFillTx/>
                <a:latin typeface="Arial"/>
              </a:rPr>
              <a:t>Business Cas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Still negative and further negative impact due to T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4b6a"/>
                </a:solidFill>
                <a:uFillTx/>
                <a:latin typeface="Arial"/>
              </a:rPr>
              <a:t>Action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Investigation of different scenarios based on SX1 V1.2 Software are not sufficient for TTM and business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Scenarios based on Penelope could lead to a sufficient solution – further investigation necessary. 1</a:t>
            </a:r>
            <a:r>
              <a:rPr b="0" lang="en-GB" sz="1400" spc="-1" strike="noStrike" baseline="30000">
                <a:solidFill>
                  <a:srgbClr val="004b6a"/>
                </a:solidFill>
                <a:latin typeface="Arial"/>
              </a:rPr>
              <a:t>st</a:t>
            </a: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 estimation TTM -&gt; launch end Sept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76360" y="1676520"/>
            <a:ext cx="3614760" cy="30477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1677960"/>
            <a:ext cx="3733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per device: BOM +Conv. Cost + Lic. Fee = HK (EUR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6360" y="4800600"/>
            <a:ext cx="3619440" cy="12952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08200" y="4805280"/>
            <a:ext cx="1263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Quantities (Mi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7720" y="5216400"/>
            <a:ext cx="762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its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ver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fe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02200" y="4186080"/>
            <a:ext cx="325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6640" y="6351480"/>
            <a:ext cx="177840" cy="166680"/>
          </a:xfrm>
          <a:prstGeom prst="rect">
            <a:avLst/>
          </a:prstGeom>
          <a:solidFill>
            <a:srgbClr val="ffd14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33840" y="6324480"/>
            <a:ext cx="695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14760" y="6095880"/>
            <a:ext cx="568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48440" y="6143760"/>
            <a:ext cx="153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ajor Change compared to last re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6640" y="6135840"/>
            <a:ext cx="177840" cy="1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76720" y="1676520"/>
            <a:ext cx="3610080" cy="21333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83120" y="1677960"/>
            <a:ext cx="1970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ist price (EUR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2151000"/>
            <a:ext cx="685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aunch Pr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3048120"/>
            <a:ext cx="914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hase out pr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67360" y="4800600"/>
            <a:ext cx="3619440" cy="12952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99200" y="4805280"/>
            <a:ext cx="1263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16440" y="5313240"/>
            <a:ext cx="1274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% o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turn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219320" y="5105520"/>
          <a:ext cx="2921040" cy="93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510552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715000" y="1905120"/>
          <a:ext cx="2921040" cy="93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190512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5716440" y="2808360"/>
          <a:ext cx="2921040" cy="930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6440" y="280836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5715000" y="5105520"/>
          <a:ext cx="2921040" cy="930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15000" y="510552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012680" y="5427720"/>
            <a:ext cx="533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12680" y="5235480"/>
            <a:ext cx="533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30360" y="1828800"/>
          <a:ext cx="3512880" cy="2844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0360" y="1828800"/>
                    <a:ext cx="35128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962520" y="91440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68800" y="60958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26120" y="4724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9720" y="33526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Financial Status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9680600">
            <a:off x="6120" y="2296440"/>
            <a:ext cx="725184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To be updated for 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1192320"/>
          <a:ext cx="6629400" cy="3328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2320"/>
                    <a:ext cx="662940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685800" y="5181480"/>
          <a:ext cx="6324480" cy="1266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5181480"/>
                    <a:ext cx="632448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6553080" y="1295280"/>
            <a:ext cx="259092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ounts: E981-0085, E982-0089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984-04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Status: 28.08.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4830840"/>
            <a:ext cx="1676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overview until M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9680600">
            <a:off x="-324000" y="2296800"/>
            <a:ext cx="72514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To be updated for 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R&amp;D Spending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Risks and Actions Neo (1)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44600" y="1136520"/>
          <a:ext cx="8180280" cy="5332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1136520"/>
                    <a:ext cx="8180280" cy="53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Risks and Actions Neo (2)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9040" y="1357200"/>
          <a:ext cx="8236080" cy="28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040" y="1357200"/>
                    <a:ext cx="823608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2T13:52:17Z</dcterms:created>
  <dc:creator>Mues-Hane</dc:creator>
  <dc:description/>
  <dc:language>en-US</dc:language>
  <cp:lastModifiedBy>Jürgen Schmitz</cp:lastModifiedBy>
  <cp:lastPrinted>2002-11-05T09:45:05Z</cp:lastPrinted>
  <dcterms:modified xsi:type="dcterms:W3CDTF">2003-10-24T09:01:18Z</dcterms:modified>
  <cp:revision>531</cp:revision>
  <dc:subject/>
  <dc:title>Template Project Status Review</dc:title>
</cp:coreProperties>
</file>